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480-B191-4BA0-B6B7-8DE5977C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538-82F5-4D81-8A52-5916F7BA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765-72B4-43AE-9D02-0FB3E319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0AA-7C23-4C3C-87C2-D119A5CB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7E8-C757-4A1B-9437-F1F5A33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4AB-957B-49A0-AB1D-4332DB91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AB3-E472-47E1-A13E-AEDFCC64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D41-14BB-42F4-89D4-0DAF59C8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69B-6409-4ECF-BAA3-B105CC1A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5AA-C3C7-405E-A8F5-FF9F9CA0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59E-610E-4F38-8364-2F9466E1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4FA-CC09-443F-A9BF-8F93210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1C34-6D4B-4CA4-986E-627746710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979560"/>
            <a:ext cx="8713800" cy="532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1628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6400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14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W, Mech,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580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Co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WC, S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39974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3997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859200"/>
            <a:ext cx="3024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3997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908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6512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272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437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6512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4651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24019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2401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844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2844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2844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4920" y="28447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844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99280" y="28386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0720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5078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94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507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3860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3997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6000" y="449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4508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56720" y="4567320"/>
            <a:ext cx="7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tner, Lic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6000" y="4653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M, 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7280" y="5078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99280" y="5072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0036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123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24200" y="1123920"/>
            <a:ext cx="31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eatu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800" y="345960"/>
            <a:ext cx="81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‘ Scenario for FY04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2.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4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2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8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1125360"/>
            <a:ext cx="1368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421000"/>
            <a:ext cx="1657080" cy="576360"/>
          </a:xfrm>
          <a:prstGeom prst="wedgeEllipseCallout">
            <a:avLst>
              <a:gd name="adj1" fmla="val 0"/>
              <a:gd name="adj2" fmla="val -11308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: 6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5734080"/>
            <a:ext cx="790560" cy="431640"/>
          </a:xfrm>
          <a:prstGeom prst="wedgeEllipseCallout">
            <a:avLst>
              <a:gd name="adj1" fmla="val -17870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8160" y="5734080"/>
            <a:ext cx="790560" cy="431640"/>
          </a:xfrm>
          <a:prstGeom prst="wedgeEllipseCallout">
            <a:avLst>
              <a:gd name="adj1" fmla="val -5421"/>
              <a:gd name="adj2" fmla="val -11360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734080"/>
            <a:ext cx="790560" cy="431640"/>
          </a:xfrm>
          <a:prstGeom prst="wedgeEllipseCallout">
            <a:avLst>
              <a:gd name="adj1" fmla="val 19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5734080"/>
            <a:ext cx="790560" cy="431640"/>
          </a:xfrm>
          <a:prstGeom prst="wedgeEllipseCallout">
            <a:avLst>
              <a:gd name="adj1" fmla="val -10240"/>
              <a:gd name="adj2" fmla="val -11470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5734080"/>
            <a:ext cx="790920" cy="431640"/>
          </a:xfrm>
          <a:prstGeom prst="wedgeEllipseCallout">
            <a:avLst>
              <a:gd name="adj1" fmla="val -22689"/>
              <a:gd name="adj2" fmla="val -11470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7800" y="5734080"/>
            <a:ext cx="790560" cy="431640"/>
          </a:xfrm>
          <a:prstGeom prst="wedgeEllipseCallout">
            <a:avLst>
              <a:gd name="adj1" fmla="val -31125"/>
              <a:gd name="adj2" fmla="val -1117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5734080"/>
            <a:ext cx="790560" cy="431640"/>
          </a:xfrm>
          <a:prstGeom prst="wedgeEllipseCallout">
            <a:avLst>
              <a:gd name="adj1" fmla="val 5824"/>
              <a:gd name="adj2" fmla="val -11948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734080"/>
            <a:ext cx="9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55920" y="573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v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3284640"/>
            <a:ext cx="934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4880" y="3284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5734080"/>
            <a:ext cx="790560" cy="431640"/>
          </a:xfrm>
          <a:prstGeom prst="wedgeEllipseCallout">
            <a:avLst>
              <a:gd name="adj1" fmla="val -77712"/>
              <a:gd name="adj2" fmla="val -47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28000" y="3573360"/>
            <a:ext cx="792000" cy="432000"/>
          </a:xfrm>
          <a:prstGeom prst="wedgeEllipseCallout">
            <a:avLst>
              <a:gd name="adj1" fmla="val -87074"/>
              <a:gd name="adj2" fmla="val -312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6520" y="3500280"/>
            <a:ext cx="790560" cy="432000"/>
          </a:xfrm>
          <a:prstGeom prst="wedgeEllipseCallout">
            <a:avLst>
              <a:gd name="adj1" fmla="val -6226"/>
              <a:gd name="adj2" fmla="val -12941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3500280"/>
            <a:ext cx="790560" cy="432000"/>
          </a:xfrm>
          <a:prstGeom prst="wedgeEllipseCallout">
            <a:avLst>
              <a:gd name="adj1" fmla="val 199"/>
              <a:gd name="adj2" fmla="val -1264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48000" y="551664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344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6144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59640" y="3357720"/>
            <a:ext cx="43200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3640" y="5516640"/>
            <a:ext cx="50328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9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51664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3284640"/>
            <a:ext cx="43200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324972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5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24972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’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9:00:27Z</dcterms:created>
  <dc:creator>Jürgen Schmitz</dc:creator>
  <dc:description/>
  <dc:language>en-US</dc:language>
  <cp:lastModifiedBy>Jürgen Schmitz</cp:lastModifiedBy>
  <dcterms:modified xsi:type="dcterms:W3CDTF">2004-12-08T17:59:43Z</dcterms:modified>
  <cp:revision>18</cp:revision>
  <dc:subject/>
  <dc:title>Folie 1</dc:title>
</cp:coreProperties>
</file>